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7.png" ContentType="image/png"/>
  <Override PartName="/ppt/media/image1.jpeg" ContentType="image/jpeg"/>
  <Override PartName="/ppt/media/image22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B140F-4657-4774-82D9-D0B62EC62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the Solar System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our solar system uniqu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other Earth-like planets, or are we a flu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what conditions can Earth-like 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ife common or r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the Solar System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our solar system uniqu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other Earth-like planets, or are we a flu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what conditions can Earth-like 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ife common or r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keeps clouds from collaps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es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ike in a ballo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keeps clouds from collaps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es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ike in a ballo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helps clouds colla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helps clouds colla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helps clouds colla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helps clouds colla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cloud is big and cold, gravity will win out and the cloud will collap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cloud is big and cold, gravity will win out and the cloud will collap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ud is spin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as it collaps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ink of the water in your bathtub dr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ud is spin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as it collaps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ink of the water in your bathtub dr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ud spins faster and faster, until it can’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 itself, and flattens out (think pizza doug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ud spins faster and faster, until it can’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 itself, and flattens out (think pizza doug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cky for us, this is the perfect way to form a sola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b =  futur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 = futur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cky for us, this is the perfect way to form a sola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b =  futur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 = futur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s form in Dense Clouds of Dust and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e mean by dust? What do we mean by ga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s form in Dense Clouds of Dust and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e mean by dust? What do we mean by ga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ion Neb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ion Neb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really exi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really exi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really exi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really exi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ng stars have asteroid bel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Kuiper be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notice how much bigger this is than the solar system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ng stars have asteroid bel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Kuiper be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notice how much bigger this is than the solar system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around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around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produce infrared light (just like plan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around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produce infrared light (just like plan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around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: What do we think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: What do we think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stronomy.ohio-state.edu/~microfun/ob06109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stronomy.ohio-state.edu/~microfun/ob06109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: What do we think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: What do we think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an’t we make a huge computer simulation to explain everyth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you design a computer simu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an’t we make a huge computer simulation to explain everyth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you design a computer simu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dels would you creat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dels would you creat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odel of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ing in a dis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odel of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ing in a dis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Ge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planets closer than gas/water gi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get smaller beyond Jupi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ets orbit in the same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mall bodies are til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Ge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planets closer than gas/water gi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get smaller beyond Jupi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ets orbit in the same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mall bodies are til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things we’ve learned from mode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basic theory holds up pretty well, bu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hard to get little particles to stick to each other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ol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akes a really, really long time to make planets (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 long?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hard to form planetary systems as flat as 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things we’ve learned from mode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basic theory holds up pretty well, bu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hard to get little particles to stick to each other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ol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akes a really, really long time to make planets (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 long?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hard to form planetary systems as flat as 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: Take-awa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 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generally agree with theory, but it’s hard to see details.  They al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us that stars and disks are all very different from each other.  And, 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ve us the surprising observation of outfl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ulations also agree with theory, but they can’t model everything at once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some problems (things take too long, for 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: Take-awa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 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generally agree with theory, but it’s hard to see details.  They al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us that stars and disks are all very different from each other.  And, 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ve us the surprising observation of outfl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ulations also agree with theory, but they can’t model everything at once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some problems (things take too long, for 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our solar system uniqu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other Earth-like planets, or are we a flu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what conditions can Earth-like 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ife common or r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our solar system uniqu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other Earth-like planets, or are we a flu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what conditions can Earth-like 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ife common or r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Planetary Interi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Planetary Interi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(Things a formation theory must expl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, with most of the system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ant planets with solid cores (far from s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planets (close to s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ets orbit in a flat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planets have mo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(Things a formation theory must expl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, with most of the system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ant planets with solid cores (far from s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planets (close to s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ets orbit in a flat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planets have mo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keeps clouds from collaps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keeps clouds from collaps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DC9E-0320-496D-ABE7-0CFDBFA97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700C-AA42-45F4-9E6B-D2D7C6353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ED90-0AA8-49C8-A3C9-C12025F46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F139-B4A4-4589-854C-DC6134DA4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F886-B187-42F3-AC9C-8752A8B6C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F84C-3483-4487-B03C-1E408B05A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4DC4-407A-4121-AFA3-ED52C6C76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659D-89C7-4E5C-A39A-E1E52CEBC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FF0C-1A21-40A9-9213-A3F96BF71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6BD4-5109-42A2-B87C-A9CC9E55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4BC6-802E-4DD0-8606-7D1EB998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825A-1FE8-4806-AF65-5D5831F2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0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B40AC-42EF-4A1C-83A8-4F1613567D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How did the Solar System for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828800" y="2103480"/>
            <a:ext cx="59436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Is our solar system uniqu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Are there other Earth-like planets, or are we a fluk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Under what conditions can Earth-like planets for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Is life common or ra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838080" y="380880"/>
            <a:ext cx="739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3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4495680" y="1981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5"/>
          <p:cNvSpPr/>
          <p:nvPr/>
        </p:nvSpPr>
        <p:spPr>
          <a:xfrm rot="16200000">
            <a:off x="3276720" y="312372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6"/>
          <p:cNvSpPr/>
          <p:nvPr/>
        </p:nvSpPr>
        <p:spPr>
          <a:xfrm flipH="1" flipV="1">
            <a:off x="4495680" y="43426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7"/>
          <p:cNvSpPr/>
          <p:nvPr/>
        </p:nvSpPr>
        <p:spPr>
          <a:xfrm rot="5400000">
            <a:off x="5714640" y="31240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1046520" y="61722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force keeps clouds from collaps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4457520" y="2362320"/>
            <a:ext cx="365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s 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shes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ike in a ballo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838080" y="380880"/>
            <a:ext cx="739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3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4495680" y="4267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5"/>
          <p:cNvSpPr/>
          <p:nvPr/>
        </p:nvSpPr>
        <p:spPr>
          <a:xfrm rot="16200000">
            <a:off x="5562360" y="32763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6"/>
          <p:cNvSpPr/>
          <p:nvPr/>
        </p:nvSpPr>
        <p:spPr>
          <a:xfrm flipH="1" flipV="1">
            <a:off x="4419000" y="20566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7"/>
          <p:cNvSpPr/>
          <p:nvPr/>
        </p:nvSpPr>
        <p:spPr>
          <a:xfrm rot="5400000">
            <a:off x="3352680" y="3200400"/>
            <a:ext cx="152280" cy="1676160"/>
          </a:xfrm>
          <a:prstGeom prst="upArrow">
            <a:avLst>
              <a:gd name="adj1" fmla="val 50000"/>
              <a:gd name="adj2" fmla="val 2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1580760" y="6248520"/>
            <a:ext cx="62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force helps clouds collap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838080" y="380880"/>
            <a:ext cx="739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3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4495680" y="4267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5"/>
          <p:cNvSpPr/>
          <p:nvPr/>
        </p:nvSpPr>
        <p:spPr>
          <a:xfrm rot="16200000">
            <a:off x="5562360" y="32763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6"/>
          <p:cNvSpPr/>
          <p:nvPr/>
        </p:nvSpPr>
        <p:spPr>
          <a:xfrm flipH="1" flipV="1">
            <a:off x="4419000" y="20566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7"/>
          <p:cNvSpPr/>
          <p:nvPr/>
        </p:nvSpPr>
        <p:spPr>
          <a:xfrm rot="5400000">
            <a:off x="3352680" y="3200400"/>
            <a:ext cx="152280" cy="1676160"/>
          </a:xfrm>
          <a:prstGeom prst="upArrow">
            <a:avLst>
              <a:gd name="adj1" fmla="val 50000"/>
              <a:gd name="adj2" fmla="val 2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1580760" y="6248520"/>
            <a:ext cx="62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force helps clouds collap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4321080" y="307188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838080" y="380880"/>
            <a:ext cx="73915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f the cloud is big and cold, gravity will win out and the cloud will collaps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3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4"/>
          <p:cNvSpPr/>
          <p:nvPr/>
        </p:nvSpPr>
        <p:spPr>
          <a:xfrm>
            <a:off x="4495680" y="4267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5"/>
          <p:cNvSpPr/>
          <p:nvPr/>
        </p:nvSpPr>
        <p:spPr>
          <a:xfrm rot="16200000">
            <a:off x="5562360" y="32763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6"/>
          <p:cNvSpPr/>
          <p:nvPr/>
        </p:nvSpPr>
        <p:spPr>
          <a:xfrm flipH="1" flipV="1">
            <a:off x="4419000" y="20566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7"/>
          <p:cNvSpPr/>
          <p:nvPr/>
        </p:nvSpPr>
        <p:spPr>
          <a:xfrm rot="5400000">
            <a:off x="3352680" y="3200400"/>
            <a:ext cx="152280" cy="1676160"/>
          </a:xfrm>
          <a:prstGeom prst="upArrow">
            <a:avLst>
              <a:gd name="adj1" fmla="val 50000"/>
              <a:gd name="adj2" fmla="val 2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4321080" y="307188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838080" y="228600"/>
            <a:ext cx="739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e cloud is spinning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What happens as it collapse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(Think of the water in your bathtub drain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3"/>
          <p:cNvSpPr/>
          <p:nvPr/>
        </p:nvSpPr>
        <p:spPr>
          <a:xfrm>
            <a:off x="2438280" y="2209680"/>
            <a:ext cx="4191120" cy="4191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4495680" y="4648320"/>
            <a:ext cx="152640" cy="1676160"/>
          </a:xfrm>
          <a:prstGeom prst="upArrow">
            <a:avLst>
              <a:gd name="adj1" fmla="val 50000"/>
              <a:gd name="adj2" fmla="val 2745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5"/>
          <p:cNvSpPr/>
          <p:nvPr/>
        </p:nvSpPr>
        <p:spPr>
          <a:xfrm rot="16200000">
            <a:off x="5715000" y="335232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6"/>
          <p:cNvSpPr/>
          <p:nvPr/>
        </p:nvSpPr>
        <p:spPr>
          <a:xfrm flipH="1" flipV="1">
            <a:off x="4495680" y="22089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7"/>
          <p:cNvSpPr/>
          <p:nvPr/>
        </p:nvSpPr>
        <p:spPr>
          <a:xfrm rot="5400000">
            <a:off x="3199680" y="32763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4321080" y="307188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9"/>
          <p:cNvSpPr/>
          <p:nvPr/>
        </p:nvSpPr>
        <p:spPr>
          <a:xfrm>
            <a:off x="3886200" y="167652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838080" y="228600"/>
            <a:ext cx="739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e cloud spins faster and faster, until it can</a:t>
            </a:r>
            <a:r>
              <a:rPr b="0" lang="ja-JP" sz="27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upport itself, and flattens out (think pizza dough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3"/>
          <p:cNvSpPr/>
          <p:nvPr/>
        </p:nvSpPr>
        <p:spPr>
          <a:xfrm>
            <a:off x="0" y="2057400"/>
            <a:ext cx="3429000" cy="3429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9"/>
          <p:cNvSpPr/>
          <p:nvPr/>
        </p:nvSpPr>
        <p:spPr>
          <a:xfrm>
            <a:off x="1066680" y="1486080"/>
            <a:ext cx="1295640" cy="380880"/>
          </a:xfrm>
          <a:custGeom>
            <a:avLst/>
            <a:gdLst>
              <a:gd name="textAreaLeft" fmla="*/ 173520 w 1295640"/>
              <a:gd name="textAreaRight" fmla="*/ 1122120 w 129564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10"/>
          <p:cNvSpPr/>
          <p:nvPr/>
        </p:nvSpPr>
        <p:spPr>
          <a:xfrm>
            <a:off x="3657600" y="3048120"/>
            <a:ext cx="3200400" cy="2590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11"/>
          <p:cNvSpPr/>
          <p:nvPr/>
        </p:nvSpPr>
        <p:spPr>
          <a:xfrm>
            <a:off x="4495680" y="2514600"/>
            <a:ext cx="1295640" cy="380880"/>
          </a:xfrm>
          <a:custGeom>
            <a:avLst/>
            <a:gdLst>
              <a:gd name="textAreaLeft" fmla="*/ 173520 w 1295640"/>
              <a:gd name="textAreaRight" fmla="*/ 1122120 w 129564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12"/>
          <p:cNvSpPr/>
          <p:nvPr/>
        </p:nvSpPr>
        <p:spPr>
          <a:xfrm>
            <a:off x="4495680" y="2324160"/>
            <a:ext cx="1295640" cy="380880"/>
          </a:xfrm>
          <a:custGeom>
            <a:avLst/>
            <a:gdLst>
              <a:gd name="textAreaLeft" fmla="*/ 173520 w 1295640"/>
              <a:gd name="textAreaRight" fmla="*/ 1122120 w 129564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Oval 13"/>
          <p:cNvSpPr/>
          <p:nvPr/>
        </p:nvSpPr>
        <p:spPr>
          <a:xfrm>
            <a:off x="7543800" y="3962520"/>
            <a:ext cx="1066680" cy="99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5"/>
          <p:cNvSpPr/>
          <p:nvPr/>
        </p:nvSpPr>
        <p:spPr>
          <a:xfrm>
            <a:off x="7086600" y="4267080"/>
            <a:ext cx="1905120" cy="38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16"/>
          <p:cNvSpPr/>
          <p:nvPr/>
        </p:nvSpPr>
        <p:spPr>
          <a:xfrm>
            <a:off x="7391520" y="342900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17"/>
          <p:cNvSpPr/>
          <p:nvPr/>
        </p:nvSpPr>
        <p:spPr>
          <a:xfrm>
            <a:off x="7391520" y="323856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18"/>
          <p:cNvSpPr/>
          <p:nvPr/>
        </p:nvSpPr>
        <p:spPr>
          <a:xfrm>
            <a:off x="7391520" y="304812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19"/>
          <p:cNvSpPr/>
          <p:nvPr/>
        </p:nvSpPr>
        <p:spPr>
          <a:xfrm>
            <a:off x="7391520" y="285768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838080" y="228600"/>
            <a:ext cx="73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ucky for us, this is the perfect way to form a solar syste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Oval 8"/>
          <p:cNvSpPr/>
          <p:nvPr/>
        </p:nvSpPr>
        <p:spPr>
          <a:xfrm>
            <a:off x="3124080" y="2362320"/>
            <a:ext cx="2971800" cy="2759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1295280" y="3048120"/>
            <a:ext cx="6705720" cy="1341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14"/>
          <p:cNvSpPr/>
          <p:nvPr/>
        </p:nvSpPr>
        <p:spPr>
          <a:xfrm>
            <a:off x="2133720" y="1676520"/>
            <a:ext cx="75960" cy="1371600"/>
          </a:xfrm>
          <a:prstGeom prst="downArrow">
            <a:avLst>
              <a:gd name="adj1" fmla="val 50000"/>
              <a:gd name="adj2" fmla="val 4514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15"/>
          <p:cNvSpPr/>
          <p:nvPr/>
        </p:nvSpPr>
        <p:spPr>
          <a:xfrm>
            <a:off x="5334120" y="1676520"/>
            <a:ext cx="75960" cy="1371600"/>
          </a:xfrm>
          <a:prstGeom prst="downArrow">
            <a:avLst>
              <a:gd name="adj1" fmla="val 50000"/>
              <a:gd name="adj2" fmla="val 4514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6"/>
          <p:cNvSpPr/>
          <p:nvPr/>
        </p:nvSpPr>
        <p:spPr>
          <a:xfrm>
            <a:off x="4746240" y="120816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b =  future s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17"/>
          <p:cNvSpPr/>
          <p:nvPr/>
        </p:nvSpPr>
        <p:spPr>
          <a:xfrm>
            <a:off x="846360" y="1233360"/>
            <a:ext cx="49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k = future solar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304920" y="228600"/>
            <a:ext cx="8381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rmation basic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10" descr=""/>
          <p:cNvPicPr/>
          <p:nvPr/>
        </p:nvPicPr>
        <p:blipFill>
          <a:blip r:embed="rId1"/>
          <a:stretch/>
        </p:blipFill>
        <p:spPr>
          <a:xfrm>
            <a:off x="1447920" y="914400"/>
            <a:ext cx="5790960" cy="5724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solar_system_form.mov" descr=""/>
          <p:cNvPicPr/>
          <p:nvPr/>
        </p:nvPicPr>
        <p:blipFill>
          <a:blip r:embed="rId1"/>
          <a:stretch/>
        </p:blipFill>
        <p:spPr>
          <a:xfrm>
            <a:off x="1600200" y="252360"/>
            <a:ext cx="6095880" cy="609588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86b6e3"/>
                </a:solidFill>
                <a:latin typeface="Techno"/>
              </a:rPr>
              <a:t>while they form</a:t>
            </a: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chno"/>
              </a:rPr>
              <a:t>Stars form in Dense Clouds of Dust and G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5943600" cy="44532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5"/>
          <p:cNvSpPr/>
          <p:nvPr/>
        </p:nvSpPr>
        <p:spPr>
          <a:xfrm>
            <a:off x="133200" y="6172200"/>
            <a:ext cx="89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do we mean by dust? What do we mean by g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"/>
          <p:cNvPicPr/>
          <p:nvPr/>
        </p:nvPicPr>
        <p:blipFill>
          <a:blip r:embed="rId1"/>
          <a:srcRect l="0" t="0" r="0" b="16278"/>
          <a:stretch/>
        </p:blipFill>
        <p:spPr>
          <a:xfrm>
            <a:off x="1450800" y="228600"/>
            <a:ext cx="6245280" cy="64008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6"/>
          <p:cNvSpPr/>
          <p:nvPr/>
        </p:nvSpPr>
        <p:spPr>
          <a:xfrm>
            <a:off x="2362320" y="44136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echno"/>
              </a:rPr>
              <a:t>The Orion Nebu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8"/>
          <p:cNvSpPr/>
          <p:nvPr/>
        </p:nvSpPr>
        <p:spPr>
          <a:xfrm>
            <a:off x="2534040" y="2286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ks really exis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1" descr="heic0917ab.jpg"/>
          <p:cNvPicPr/>
          <p:nvPr/>
        </p:nvPicPr>
        <p:blipFill>
          <a:blip r:embed="rId1"/>
          <a:stretch/>
        </p:blipFill>
        <p:spPr>
          <a:xfrm>
            <a:off x="380880" y="838080"/>
            <a:ext cx="8359920" cy="548640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1789200" y="914400"/>
            <a:ext cx="2539800" cy="25401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5410080" y="914400"/>
            <a:ext cx="2689200" cy="2797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"/>
          <p:cNvPicPr/>
          <p:nvPr/>
        </p:nvPicPr>
        <p:blipFill>
          <a:blip r:embed="rId3"/>
          <a:stretch/>
        </p:blipFill>
        <p:spPr>
          <a:xfrm>
            <a:off x="4572000" y="419112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"/>
          <p:cNvPicPr/>
          <p:nvPr/>
        </p:nvPicPr>
        <p:blipFill>
          <a:blip r:embed="rId4"/>
          <a:stretch/>
        </p:blipFill>
        <p:spPr>
          <a:xfrm>
            <a:off x="762120" y="3879720"/>
            <a:ext cx="2692440" cy="269244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8"/>
          <p:cNvSpPr/>
          <p:nvPr/>
        </p:nvSpPr>
        <p:spPr>
          <a:xfrm>
            <a:off x="2534040" y="2286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ks really exis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echno"/>
              </a:rPr>
              <a:t>Young stars have asteroid belt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echno"/>
              </a:rPr>
              <a:t>and Kuiper bel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932040" y="2133720"/>
            <a:ext cx="7278480" cy="41148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4"/>
          <p:cNvSpPr/>
          <p:nvPr/>
        </p:nvSpPr>
        <p:spPr>
          <a:xfrm>
            <a:off x="-796320" y="6288120"/>
            <a:ext cx="106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notice how much bigger this is than the solar system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8"/>
          <p:cNvSpPr/>
          <p:nvPr/>
        </p:nvSpPr>
        <p:spPr>
          <a:xfrm>
            <a:off x="594360" y="228600"/>
            <a:ext cx="804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y do you think this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324720" y="228600"/>
            <a:ext cx="859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y do you think this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6188760" y="1676520"/>
            <a:ext cx="3289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what st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would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 like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disk around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17" descr="blackbody"/>
          <p:cNvPicPr/>
          <p:nvPr/>
        </p:nvPicPr>
        <p:blipFill>
          <a:blip r:embed="rId1"/>
          <a:stretch/>
        </p:blipFill>
        <p:spPr>
          <a:xfrm>
            <a:off x="60480" y="2362320"/>
            <a:ext cx="6264000" cy="350496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324720" y="228600"/>
            <a:ext cx="859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y do you think this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99000" y="6095880"/>
            <a:ext cx="89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ks produce infrared light (just like pla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9" descr="blackbody"/>
          <p:cNvPicPr/>
          <p:nvPr/>
        </p:nvPicPr>
        <p:blipFill>
          <a:blip r:embed="rId1"/>
          <a:stretch/>
        </p:blipFill>
        <p:spPr>
          <a:xfrm>
            <a:off x="60480" y="2362320"/>
            <a:ext cx="6264000" cy="35049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10"/>
          <p:cNvSpPr/>
          <p:nvPr/>
        </p:nvSpPr>
        <p:spPr>
          <a:xfrm>
            <a:off x="6188760" y="1676520"/>
            <a:ext cx="3289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what st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would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 like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disk around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1"/>
          <p:cNvSpPr/>
          <p:nvPr/>
        </p:nvSpPr>
        <p:spPr>
          <a:xfrm>
            <a:off x="2286000" y="2819520"/>
            <a:ext cx="403848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035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echno"/>
              </a:rPr>
              <a:t>Our theory: What do we think now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036"/>
          <p:cNvSpPr/>
          <p:nvPr/>
        </p:nvSpPr>
        <p:spPr>
          <a:xfrm>
            <a:off x="685800" y="11430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olar system formation begins because of gravity - most stuff ends up in the 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A disk is formed because of r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Planet cores form in the disk bec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rocks hit and/or gravitationally attract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If t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ice around (&gt; 5 AU from the star, where 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cold) the cores are bigger.  If big enough, th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ll suck gas out of the disk and form giant pla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Moons form via collision or capture or in mini d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</a:t>
            </a: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</a:t>
            </a: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5" descr="multiplanet_systems.jpg"/>
          <p:cNvPicPr/>
          <p:nvPr/>
        </p:nvPicPr>
        <p:blipFill>
          <a:blip r:embed="rId1"/>
          <a:srcRect l="0" t="0" r="0" b="5952"/>
          <a:stretch/>
        </p:blipFill>
        <p:spPr>
          <a:xfrm>
            <a:off x="1447920" y="228600"/>
            <a:ext cx="6400800" cy="601992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6"/>
          <p:cNvSpPr/>
          <p:nvPr/>
        </p:nvSpPr>
        <p:spPr>
          <a:xfrm>
            <a:off x="838080" y="63230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astronomy.ohio-state.edu/~microfun/ob06109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3" descr="kepler_histogram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035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echno"/>
              </a:rPr>
              <a:t>Our theory: What do we think now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036"/>
          <p:cNvSpPr/>
          <p:nvPr/>
        </p:nvSpPr>
        <p:spPr>
          <a:xfrm>
            <a:off x="685800" y="11430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olar system formation begins because of gravity - most stuff ends up in the 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A disk is formed because of r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Planet cores form in the disk bec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rocks hit and/or gravitationally attract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If t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ice around (&gt; 5 AU from the star, where 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cold) the cores are bigger.  If big enough, th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ll suck gas out of the disk and form giant pla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Moons form via collision or capture or in mini d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Why c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t we make a huge computer simulation to explain everyth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51"/>
          <p:cNvGrpSpPr/>
          <p:nvPr/>
        </p:nvGrpSpPr>
        <p:grpSpPr>
          <a:xfrm>
            <a:off x="2895480" y="3048120"/>
            <a:ext cx="1371600" cy="971280"/>
            <a:chOff x="2895480" y="3048120"/>
            <a:chExt cx="1371600" cy="971280"/>
          </a:xfrm>
        </p:grpSpPr>
        <p:sp>
          <p:nvSpPr>
            <p:cNvPr id="208" name="Oval 7"/>
            <p:cNvSpPr/>
            <p:nvPr/>
          </p:nvSpPr>
          <p:spPr>
            <a:xfrm>
              <a:off x="4038480" y="379080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AutoShape 8"/>
            <p:cNvSpPr/>
            <p:nvPr/>
          </p:nvSpPr>
          <p:spPr>
            <a:xfrm>
              <a:off x="2895480" y="3048120"/>
              <a:ext cx="381240" cy="571320"/>
            </a:xfrm>
            <a:prstGeom prst="su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25"/>
            <p:cNvSpPr/>
            <p:nvPr/>
          </p:nvSpPr>
          <p:spPr>
            <a:xfrm>
              <a:off x="3314520" y="3409920"/>
              <a:ext cx="648000" cy="3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Group 52"/>
          <p:cNvGrpSpPr/>
          <p:nvPr/>
        </p:nvGrpSpPr>
        <p:grpSpPr>
          <a:xfrm>
            <a:off x="1523880" y="4476600"/>
            <a:ext cx="1371600" cy="1733400"/>
            <a:chOff x="1523880" y="4476600"/>
            <a:chExt cx="1371600" cy="1733400"/>
          </a:xfrm>
        </p:grpSpPr>
        <p:sp>
          <p:nvSpPr>
            <p:cNvPr id="212" name="Oval 6"/>
            <p:cNvSpPr/>
            <p:nvPr/>
          </p:nvSpPr>
          <p:spPr>
            <a:xfrm>
              <a:off x="1790640" y="598140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Oval 15"/>
            <p:cNvSpPr/>
            <p:nvPr/>
          </p:nvSpPr>
          <p:spPr>
            <a:xfrm>
              <a:off x="2666880" y="521964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AutoShape 16"/>
            <p:cNvSpPr/>
            <p:nvPr/>
          </p:nvSpPr>
          <p:spPr>
            <a:xfrm>
              <a:off x="1523880" y="4476600"/>
              <a:ext cx="380880" cy="571320"/>
            </a:xfrm>
            <a:prstGeom prst="su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23"/>
            <p:cNvSpPr/>
            <p:nvPr/>
          </p:nvSpPr>
          <p:spPr>
            <a:xfrm>
              <a:off x="1790640" y="5143320"/>
              <a:ext cx="763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Line 26"/>
            <p:cNvSpPr/>
            <p:nvPr/>
          </p:nvSpPr>
          <p:spPr>
            <a:xfrm>
              <a:off x="2019240" y="483840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Line 27"/>
            <p:cNvSpPr/>
            <p:nvPr/>
          </p:nvSpPr>
          <p:spPr>
            <a:xfrm flipV="1">
              <a:off x="2019240" y="5447880"/>
              <a:ext cx="5335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Group 53"/>
          <p:cNvGrpSpPr/>
          <p:nvPr/>
        </p:nvGrpSpPr>
        <p:grpSpPr>
          <a:xfrm>
            <a:off x="5829480" y="3352680"/>
            <a:ext cx="2286000" cy="2886120"/>
            <a:chOff x="5829480" y="3352680"/>
            <a:chExt cx="2286000" cy="2886120"/>
          </a:xfrm>
        </p:grpSpPr>
        <p:grpSp>
          <p:nvGrpSpPr>
            <p:cNvPr id="219" name="Group 29"/>
            <p:cNvGrpSpPr/>
            <p:nvPr/>
          </p:nvGrpSpPr>
          <p:grpSpPr>
            <a:xfrm>
              <a:off x="6743880" y="4505400"/>
              <a:ext cx="1371600" cy="1733400"/>
              <a:chOff x="6743880" y="4505400"/>
              <a:chExt cx="1371600" cy="1733400"/>
            </a:xfrm>
          </p:grpSpPr>
          <p:sp>
            <p:nvSpPr>
              <p:cNvPr id="220" name="Oval 30"/>
              <p:cNvSpPr/>
              <p:nvPr/>
            </p:nvSpPr>
            <p:spPr>
              <a:xfrm>
                <a:off x="7010640" y="6010200"/>
                <a:ext cx="228600" cy="2286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Oval 31"/>
              <p:cNvSpPr/>
              <p:nvPr/>
            </p:nvSpPr>
            <p:spPr>
              <a:xfrm>
                <a:off x="7886880" y="5248440"/>
                <a:ext cx="228600" cy="2286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AutoShape 32"/>
              <p:cNvSpPr/>
              <p:nvPr/>
            </p:nvSpPr>
            <p:spPr>
              <a:xfrm>
                <a:off x="6743880" y="4505400"/>
                <a:ext cx="380880" cy="571320"/>
              </a:xfrm>
              <a:prstGeom prst="su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Line 33"/>
              <p:cNvSpPr/>
              <p:nvPr/>
            </p:nvSpPr>
            <p:spPr>
              <a:xfrm>
                <a:off x="7010640" y="5172120"/>
                <a:ext cx="7632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Line 34"/>
              <p:cNvSpPr/>
              <p:nvPr/>
            </p:nvSpPr>
            <p:spPr>
              <a:xfrm>
                <a:off x="7239240" y="4867200"/>
                <a:ext cx="53352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Line 35"/>
              <p:cNvSpPr/>
              <p:nvPr/>
            </p:nvSpPr>
            <p:spPr>
              <a:xfrm flipV="1">
                <a:off x="7239240" y="5476680"/>
                <a:ext cx="53352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Oval 36"/>
            <p:cNvSpPr/>
            <p:nvPr/>
          </p:nvSpPr>
          <p:spPr>
            <a:xfrm>
              <a:off x="7239240" y="335268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Oval 37"/>
            <p:cNvSpPr/>
            <p:nvPr/>
          </p:nvSpPr>
          <p:spPr>
            <a:xfrm>
              <a:off x="5943960" y="401940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Oval 38"/>
            <p:cNvSpPr/>
            <p:nvPr/>
          </p:nvSpPr>
          <p:spPr>
            <a:xfrm>
              <a:off x="5829480" y="554364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39"/>
            <p:cNvSpPr/>
            <p:nvPr/>
          </p:nvSpPr>
          <p:spPr>
            <a:xfrm>
              <a:off x="6172560" y="4248000"/>
              <a:ext cx="571320" cy="2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0"/>
            <p:cNvSpPr/>
            <p:nvPr/>
          </p:nvSpPr>
          <p:spPr>
            <a:xfrm flipV="1">
              <a:off x="6172560" y="3562200"/>
              <a:ext cx="10666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1"/>
            <p:cNvSpPr/>
            <p:nvPr/>
          </p:nvSpPr>
          <p:spPr>
            <a:xfrm flipH="1">
              <a:off x="5943600" y="4505400"/>
              <a:ext cx="114120" cy="86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2"/>
            <p:cNvSpPr/>
            <p:nvPr/>
          </p:nvSpPr>
          <p:spPr>
            <a:xfrm>
              <a:off x="6172560" y="4248000"/>
              <a:ext cx="838080" cy="160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3"/>
            <p:cNvSpPr/>
            <p:nvPr/>
          </p:nvSpPr>
          <p:spPr>
            <a:xfrm>
              <a:off x="6172560" y="4248000"/>
              <a:ext cx="1714320" cy="92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44"/>
            <p:cNvSpPr/>
            <p:nvPr/>
          </p:nvSpPr>
          <p:spPr>
            <a:xfrm flipH="1">
              <a:off x="6972120" y="3790800"/>
              <a:ext cx="343080" cy="7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Line 45"/>
            <p:cNvSpPr/>
            <p:nvPr/>
          </p:nvSpPr>
          <p:spPr>
            <a:xfrm>
              <a:off x="7391880" y="3581280"/>
              <a:ext cx="571320" cy="149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6"/>
            <p:cNvSpPr/>
            <p:nvPr/>
          </p:nvSpPr>
          <p:spPr>
            <a:xfrm flipH="1">
              <a:off x="7239240" y="3581280"/>
              <a:ext cx="76320" cy="227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7"/>
            <p:cNvSpPr/>
            <p:nvPr/>
          </p:nvSpPr>
          <p:spPr>
            <a:xfrm flipH="1">
              <a:off x="6172200" y="3790800"/>
              <a:ext cx="106668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48"/>
            <p:cNvSpPr/>
            <p:nvPr/>
          </p:nvSpPr>
          <p:spPr>
            <a:xfrm flipV="1">
              <a:off x="6172560" y="5371560"/>
              <a:ext cx="1714320" cy="17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49"/>
            <p:cNvSpPr/>
            <p:nvPr/>
          </p:nvSpPr>
          <p:spPr>
            <a:xfrm flipV="1">
              <a:off x="6058080" y="4866840"/>
              <a:ext cx="685800" cy="60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0"/>
            <p:cNvSpPr/>
            <p:nvPr/>
          </p:nvSpPr>
          <p:spPr>
            <a:xfrm>
              <a:off x="6134400" y="5772240"/>
              <a:ext cx="800280" cy="23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Rectangle 55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chno"/>
              </a:rPr>
              <a:t>How do you design a computer simul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6"/>
          <p:cNvSpPr/>
          <p:nvPr/>
        </p:nvSpPr>
        <p:spPr>
          <a:xfrm>
            <a:off x="1064880" y="507960"/>
            <a:ext cx="725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models would you crea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cluster4.avi" descr="/Users/csalyk/Dropbox/tocc/Modules/Origin_Planets_C/cluster4.avi"/>
          <p:cNvPicPr/>
          <p:nvPr/>
        </p:nvPicPr>
        <p:blipFill>
          <a:blip r:embed="rId1"/>
          <a:stretch/>
        </p:blipFill>
        <p:spPr>
          <a:xfrm>
            <a:off x="1295280" y="152280"/>
            <a:ext cx="6477120" cy="6477120"/>
          </a:xfrm>
          <a:prstGeom prst="rect">
            <a:avLst/>
          </a:prstGeom>
          <a:ln w="0">
            <a:noFill/>
          </a:ln>
        </p:spPr>
      </p:pic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9333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1371600" y="76320"/>
            <a:ext cx="3713040" cy="662940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3"/>
          <p:cNvSpPr/>
          <p:nvPr/>
        </p:nvSpPr>
        <p:spPr>
          <a:xfrm>
            <a:off x="5158440" y="1447920"/>
            <a:ext cx="347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odel of pla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wing in a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lunarImpact.mov" descr="/Users/csalyk/Dropbox/tocc/Modules/Origin_Planets_C/lunarImpact.mov"/>
          <p:cNvPicPr/>
          <p:nvPr/>
        </p:nvPicPr>
        <p:blipFill>
          <a:blip r:embed="rId1"/>
          <a:stretch/>
        </p:blipFill>
        <p:spPr>
          <a:xfrm>
            <a:off x="868320" y="0"/>
            <a:ext cx="740736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8000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Solar System Geome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4737240"/>
            <a:ext cx="7772400" cy="13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chno"/>
              </a:rPr>
              <a:t>Terrestrial planets closer than gas/water gi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chno"/>
              </a:rPr>
              <a:t>Planets get smaller beyond Jupi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chno"/>
              </a:rPr>
              <a:t>Most planets orbit in the same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chno"/>
              </a:rPr>
              <a:t>Some small bodies are til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028" descr=""/>
          <p:cNvPicPr/>
          <p:nvPr/>
        </p:nvPicPr>
        <p:blipFill>
          <a:blip r:embed="rId1"/>
          <a:srcRect l="0" t="36201" r="0" b="0"/>
          <a:stretch/>
        </p:blipFill>
        <p:spPr>
          <a:xfrm>
            <a:off x="152280" y="1295280"/>
            <a:ext cx="8763120" cy="3060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migration.mpg" descr="/Users/csalyk/Dropbox/tocc/Modules/Origin_Planets_C/migration.mpg"/>
          <p:cNvPicPr/>
          <p:nvPr/>
        </p:nvPicPr>
        <p:blipFill>
          <a:blip r:embed="rId1"/>
          <a:stretch/>
        </p:blipFill>
        <p:spPr>
          <a:xfrm>
            <a:off x="1447920" y="355680"/>
            <a:ext cx="6197400" cy="619740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26333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30" nodeType="clickEffect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3"/>
          <p:cNvSpPr/>
          <p:nvPr/>
        </p:nvSpPr>
        <p:spPr>
          <a:xfrm>
            <a:off x="838080" y="380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-141120" y="274680"/>
            <a:ext cx="929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things w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 learned from mode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-1016640" y="1378080"/>
            <a:ext cx="11220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basic theory holds up pretty well, bu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hard to get little particles to stick to each other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coll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takes a really, really long time to make planets (may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long?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hard to form planetary systems as flat as 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304920" y="7632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echno"/>
              </a:rPr>
              <a:t>Solar System Formation: Take-away messa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685800" y="1371600"/>
            <a:ext cx="76960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Solar system formation begins because of gravity - most stuff ends up in the s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A disk is formed because of ro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Planet cores form in the disk because rocks hit and/or gravitationally attract each 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If ther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s ice around (&gt; 5 AU from the star, where i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s cold) the cores are bigger.  If big enough, they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ll suck gas out of the disk and form giant plan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Moons form via collision or capture or in mini dis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287640" y="9144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or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255240" y="4362480"/>
            <a:ext cx="8809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chno"/>
              </a:rPr>
              <a:t>Observations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 generally agree with theory, but it’s hard to see details.  They al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show us that stars and disks are all very different from each other.  And, th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gave us the surprising observation of outflow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chno"/>
              </a:rPr>
              <a:t>Simulations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 also agree with theory, but they can’t model everything at once,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there are some problems (things take too long, for o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3"/>
          <p:cNvSpPr/>
          <p:nvPr/>
        </p:nvSpPr>
        <p:spPr>
          <a:xfrm>
            <a:off x="1295280" y="884160"/>
            <a:ext cx="73152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Is our solar system uniqu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Are there other Earth-like planets, or are we a fluk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Under what conditions can Earth-like planets for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Is life common or ra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echno"/>
              </a:rPr>
              <a:t>Summary of Planetary Interi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027" descr=""/>
          <p:cNvPicPr/>
          <p:nvPr/>
        </p:nvPicPr>
        <p:blipFill>
          <a:blip r:embed="rId1"/>
          <a:stretch/>
        </p:blipFill>
        <p:spPr>
          <a:xfrm>
            <a:off x="762120" y="1231920"/>
            <a:ext cx="7619760" cy="5397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7924680" cy="4389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5019840" y="3746520"/>
            <a:ext cx="4124160" cy="3111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"/>
          <p:cNvPicPr/>
          <p:nvPr/>
        </p:nvPicPr>
        <p:blipFill>
          <a:blip r:embed="rId3"/>
          <a:stretch/>
        </p:blipFill>
        <p:spPr>
          <a:xfrm>
            <a:off x="1219320" y="4648320"/>
            <a:ext cx="2286000" cy="210348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026"/>
          <p:cNvSpPr/>
          <p:nvPr/>
        </p:nvSpPr>
        <p:spPr>
          <a:xfrm>
            <a:off x="304920" y="38088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chno"/>
              </a:rPr>
              <a:t>Summary (Things a formation theory must expl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027"/>
          <p:cNvSpPr/>
          <p:nvPr/>
        </p:nvSpPr>
        <p:spPr>
          <a:xfrm>
            <a:off x="762120" y="1422360"/>
            <a:ext cx="7772400" cy="47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The sun, with most of the system mas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Giant planets with solid cores (far from sun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Terrestrial planets (close to sun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Most planets orbit in a flat plan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Many planets have mo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035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echno"/>
              </a:rPr>
              <a:t>Our theor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036"/>
          <p:cNvSpPr/>
          <p:nvPr/>
        </p:nvSpPr>
        <p:spPr>
          <a:xfrm>
            <a:off x="685800" y="11430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olar system formation begins because of gravity - most stuff ends up in the 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A disk is formed because of r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Planet cores form in the disk bec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rocks hit and/or gravitationally attract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If t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ice around (&gt; 5 AU from the star, where 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cold) the cores are bigger.  If big enough, th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ll suck gas out of the disk and form giant pla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Moons form via collision or capture or in mini d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8"/>
          <p:cNvSpPr/>
          <p:nvPr/>
        </p:nvSpPr>
        <p:spPr>
          <a:xfrm>
            <a:off x="838080" y="380880"/>
            <a:ext cx="739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9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10"/>
          <p:cNvSpPr/>
          <p:nvPr/>
        </p:nvSpPr>
        <p:spPr>
          <a:xfrm>
            <a:off x="4495680" y="1981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11"/>
          <p:cNvSpPr/>
          <p:nvPr/>
        </p:nvSpPr>
        <p:spPr>
          <a:xfrm rot="16200000">
            <a:off x="3276720" y="312372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12"/>
          <p:cNvSpPr/>
          <p:nvPr/>
        </p:nvSpPr>
        <p:spPr>
          <a:xfrm flipH="1" flipV="1">
            <a:off x="4495680" y="43426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13"/>
          <p:cNvSpPr/>
          <p:nvPr/>
        </p:nvSpPr>
        <p:spPr>
          <a:xfrm rot="5400000">
            <a:off x="5714640" y="31240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4"/>
          <p:cNvSpPr/>
          <p:nvPr/>
        </p:nvSpPr>
        <p:spPr>
          <a:xfrm>
            <a:off x="1046520" y="61722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force keeps clouds from collaps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6T06:23:55Z</dcterms:created>
  <dc:creator>MeiMei Monkey</dc:creator>
  <dc:description/>
  <dc:language>en-US</dc:language>
  <cp:lastModifiedBy>Legion</cp:lastModifiedBy>
  <dcterms:modified xsi:type="dcterms:W3CDTF">2017-01-26T10:16:30Z</dcterms:modified>
  <cp:revision>134</cp:revision>
  <dc:subject/>
  <dc:title>PowerPoint Presentation</dc:title>
</cp:coreProperties>
</file>